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6.wmf" ContentType="image/x-wmf"/>
  <Override PartName="/ppt/media/image22.jpeg" ContentType="image/jpeg"/>
  <Override PartName="/ppt/media/image21.jpeg" ContentType="image/jpeg"/>
  <Override PartName="/ppt/media/image2.wmf" ContentType="image/x-wmf"/>
  <Override PartName="/ppt/media/image15.gif" ContentType="image/gif"/>
  <Override PartName="/ppt/media/image28.jpeg" ContentType="image/jpeg"/>
  <Override PartName="/ppt/media/image34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8.png" ContentType="image/png"/>
  <Override PartName="/ppt/media/image6.jpeg" ContentType="image/jpeg"/>
  <Override PartName="/ppt/media/image12.wmf" ContentType="image/x-wmf"/>
  <Override PartName="/ppt/media/image33.gif" ContentType="image/gif"/>
  <Override PartName="/ppt/media/image35.png" ContentType="image/png"/>
  <Override PartName="/ppt/media/image4.wmf" ContentType="image/x-wmf"/>
  <Override PartName="/ppt/media/image27.wmf" ContentType="image/x-wmf"/>
  <Override PartName="/ppt/media/image30.png" ContentType="image/png"/>
  <Override PartName="/ppt/media/image3.jpeg" ContentType="image/jpeg"/>
  <Override PartName="/ppt/media/image23.jpeg" ContentType="image/jpeg"/>
  <Override PartName="/ppt/media/image7.jpeg" ContentType="image/jpeg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E11-4711-497F-9737-DE442697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666-8901-4862-8C0B-6E0E97DA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A77-AE7C-4FC0-84BC-88BBE88C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DB6-1A74-4A97-9993-400CC330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28D-D161-4254-91A2-054DC7A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62D-C2C3-4F02-AC77-48F7E6CE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1DA-78E8-4E95-A331-D1567F7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97B-B4CD-4EC3-B22A-C287BFF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915-77B7-438B-8110-091E02A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FE4-684E-4EEC-8BFB-45A689D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C72-1BCA-4868-91E0-CC2C716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D53-6E20-4CE0-ACB2-7034E9E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DE03-DB0E-4183-83CC-5689F708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ai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you are a computer systems engineer and your job is to design a computer that can perform all the functions of a human b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19520"/>
            <a:ext cx="777240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rainlike functions can already be performed by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rainlike functions cannot be performed by comput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523880" cy="9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305000" cy="8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ebrum split into right and left hemispheres by a deep groove called the corpus callos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hemisphere is divided into 4 lob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. fro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2. temp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3. parie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4. occi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1693800"/>
            <a:ext cx="41148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92880" cy="552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380880"/>
            <a:ext cx="6781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4 Lob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hemisphere deals with the opposite side of the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ies sugg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side controls creativity and artistic 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side controls analytical and mathematical 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362400"/>
            <a:ext cx="6248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Brain vs. Right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01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er layer – cerebral cortex (gray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ely packed nerve cel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es info. from sense organs &amp; controls body m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ner layer (white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axons with myelin sh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s cerebral cortex &amp; brain 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part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back of the sk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s and balances actions of the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260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s brain to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below the 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parts: pons &amp; medulla oblong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blood pressure, heart rate, breathing,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78520" y="1523880"/>
            <a:ext cx="31654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lamus/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 between brain stem and cerebr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lamus – receives messages from all sensory recep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thalamus – control center for hunger, thirst, fatigue, anger, and body temp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62520" y="1295280"/>
            <a:ext cx="3381480" cy="2982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67480" y="4724280"/>
            <a:ext cx="111600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80324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43200" y="4876920"/>
            <a:ext cx="1676520" cy="153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952880" y="4876920"/>
            <a:ext cx="185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ommunications link between brain and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 pairs of spinal 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8120" y="2286000"/>
            <a:ext cx="3825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es are quick, automatic responses to a stimulus (esp. for times of dang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so qui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Info. processed directly in spinal cord, not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coughing, sneezing, b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ee Figure 35-11 in tex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4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hapter 35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s of the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nerves that are not a part of the brain or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sensory and motor div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n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s impulse from sensory organs to C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s impulse from CNS to muscles &amp; gl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divided into somatic nervous system and autonomic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86600" y="2590920"/>
            <a:ext cx="1671480" cy="184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4475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at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activities that are under consciou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. movement of the skel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21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activities that are automatic, or in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eart pumping, 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two parts – sympathetic and para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pposite effects on same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ympathetic speeds up heart rate while parasympathetic will slow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1209600" cy="106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93040" y="213372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does the “Fight-or-Flight” Respons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76520"/>
            <a:ext cx="4572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aced with a threatening situation, an organism can choose to fight or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imulates activities that prepare the body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rings the body back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7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31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3049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rvous System Divisions 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7400" y="3594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94360" y="300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18080" y="1104840"/>
            <a:ext cx="1574640" cy="825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5400" y="194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94360" y="215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9200" y="2978280"/>
            <a:ext cx="1371600" cy="622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6880" y="3263760"/>
            <a:ext cx="299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158920"/>
            <a:ext cx="408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87560" y="3009960"/>
            <a:ext cx="121932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6840" y="2387520"/>
            <a:ext cx="176544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1760" y="4119480"/>
            <a:ext cx="176508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280" y="4119480"/>
            <a:ext cx="176508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2387520"/>
            <a:ext cx="176544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3080" y="5257800"/>
            <a:ext cx="17654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9200" y="5245200"/>
            <a:ext cx="1815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3360" y="3129120"/>
            <a:ext cx="1501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nsist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7280" y="3890880"/>
            <a:ext cx="31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27280" y="389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63960" y="389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2036880"/>
            <a:ext cx="130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00520" y="3743280"/>
            <a:ext cx="11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40200" y="4732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70080" y="5029200"/>
            <a:ext cx="313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70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071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900680"/>
            <a:ext cx="176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117440"/>
            <a:ext cx="1575000" cy="82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78200" y="2990880"/>
            <a:ext cx="5583240" cy="641160"/>
            <a:chOff x="2878200" y="2990880"/>
            <a:chExt cx="5583240" cy="641160"/>
          </a:xfrm>
        </p:grpSpPr>
        <p:sp>
          <p:nvSpPr>
            <p:cNvPr id="168" name=""/>
            <p:cNvSpPr/>
            <p:nvPr/>
          </p:nvSpPr>
          <p:spPr>
            <a:xfrm>
              <a:off x="7089840" y="2990880"/>
              <a:ext cx="1371600" cy="622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ner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8200" y="3022560"/>
              <a:ext cx="121896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tor ner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90560" y="4132440"/>
            <a:ext cx="4876920" cy="609480"/>
            <a:chOff x="790560" y="4132440"/>
            <a:chExt cx="4876920" cy="609480"/>
          </a:xfrm>
        </p:grpSpPr>
        <p:sp>
          <p:nvSpPr>
            <p:cNvPr id="171" name=""/>
            <p:cNvSpPr/>
            <p:nvPr/>
          </p:nvSpPr>
          <p:spPr>
            <a:xfrm>
              <a:off x="3902040" y="4132440"/>
              <a:ext cx="176544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nom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560" y="4132440"/>
              <a:ext cx="176544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ma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87480" y="2400480"/>
            <a:ext cx="5879880" cy="609480"/>
            <a:chOff x="987480" y="2400480"/>
            <a:chExt cx="5879880" cy="609480"/>
          </a:xfrm>
        </p:grpSpPr>
        <p:sp>
          <p:nvSpPr>
            <p:cNvPr id="174" name=""/>
            <p:cNvSpPr/>
            <p:nvPr/>
          </p:nvSpPr>
          <p:spPr>
            <a:xfrm>
              <a:off x="987480" y="2400480"/>
              <a:ext cx="1765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ntral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2280" y="2400480"/>
              <a:ext cx="1765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ipheral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133720" y="5257800"/>
            <a:ext cx="4971960" cy="622440"/>
            <a:chOff x="2133720" y="5257800"/>
            <a:chExt cx="4971960" cy="622440"/>
          </a:xfrm>
        </p:grpSpPr>
        <p:sp>
          <p:nvSpPr>
            <p:cNvPr id="177" name=""/>
            <p:cNvSpPr/>
            <p:nvPr/>
          </p:nvSpPr>
          <p:spPr>
            <a:xfrm>
              <a:off x="2133720" y="5270400"/>
              <a:ext cx="176508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mpathe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89480" y="5257800"/>
              <a:ext cx="181620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sympathe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of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. Central nervous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center of the body – relays messages, processes info., and analyzes inf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. Peripheral nervous system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s info. from the environment and relays commands from the CNS to gland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00640" y="1371600"/>
            <a:ext cx="3843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by sk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by verteb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protected by 3 layers of connective tissue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n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225800" cy="167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379520" cy="15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14940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1560" y="1638360"/>
            <a:ext cx="5457960" cy="39290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15920" y="1397160"/>
            <a:ext cx="5750640" cy="4048200"/>
            <a:chOff x="1915920" y="1397160"/>
            <a:chExt cx="5750640" cy="4048200"/>
          </a:xfrm>
        </p:grpSpPr>
        <p:sp>
          <p:nvSpPr>
            <p:cNvPr id="57" name=""/>
            <p:cNvSpPr/>
            <p:nvPr/>
          </p:nvSpPr>
          <p:spPr>
            <a:xfrm>
              <a:off x="1915920" y="194328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al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85920" y="139716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ntral 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7960" y="1397160"/>
              <a:ext cx="98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y ma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56640" y="1981080"/>
              <a:ext cx="104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ite ma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44840" y="5168880"/>
              <a:ext cx="152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ninges (3 laye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3352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ross Section of the 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between the meninges and the brain/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hes brain and spinal cord and acts as a shock absor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95680" y="3511440"/>
            <a:ext cx="5105520" cy="334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28600" y="3429000"/>
            <a:ext cx="4038480" cy="323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32767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puncture – to collect C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o which impulses flow and from which impulses orig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73320" y="1697040"/>
            <a:ext cx="5521320" cy="3738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128600" y="1778040"/>
            <a:ext cx="7293240" cy="3743640"/>
            <a:chOff x="1128600" y="1778040"/>
            <a:chExt cx="7293240" cy="3743640"/>
          </a:xfrm>
        </p:grpSpPr>
        <p:sp>
          <p:nvSpPr>
            <p:cNvPr id="74" name=""/>
            <p:cNvSpPr/>
            <p:nvPr/>
          </p:nvSpPr>
          <p:spPr>
            <a:xfrm>
              <a:off x="2921400" y="480060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1200" y="4305240"/>
              <a:ext cx="114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uitary 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28600" y="394956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0960" y="177804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64080" y="521964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ulla oblong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72640" y="52452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0" y="4267080"/>
              <a:ext cx="9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el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7160" y="243828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5040" y="215892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5720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Brain: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part of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voluntary (conscious) bod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intelligence, learning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463400" cy="132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2162160" cy="171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1819440" cy="11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3085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2:41:04Z</dcterms:created>
  <dc:creator>Theresa DeLaurentis</dc:creator>
  <dc:description/>
  <dc:language>en-US</dc:language>
  <cp:lastModifiedBy>Preferred Customer</cp:lastModifiedBy>
  <dcterms:modified xsi:type="dcterms:W3CDTF">2009-11-28T01:41:03Z</dcterms:modified>
  <cp:revision>10</cp:revision>
  <dc:subject/>
  <dc:title>Brainiac</dc:title>
</cp:coreProperties>
</file>